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C62-A969-499A-82DB-83A3452E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C78-C9E5-4E3B-A0F3-22714D53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20B-1DF7-496E-8412-DA4823C2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C85-61B9-43D0-BD30-CF04C081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D89-8586-45E3-90F5-AF3D42BE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6AE-ABB0-423F-BAAC-0A26B56E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0F7-56B1-43EE-947F-1E6B6F32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CA4-EB54-45A7-AF75-502E589A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245-6FCE-4E18-B4E2-BAEC0DE4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0ED-49C3-4344-9B9F-66731325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B93-071E-4E70-988E-DF028697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879-71CD-423E-8E76-F7C512E6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5F53-39AF-43CE-A46C-E88A25C31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slide" Target="slide6.xml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11280" y="404640"/>
            <a:ext cx="8353440" cy="370080"/>
            <a:chOff x="611280" y="404640"/>
            <a:chExt cx="8353440" cy="3700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611280" y="404640"/>
              <a:ext cx="5047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451640" y="404640"/>
              <a:ext cx="1513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eza, agosto 0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194600" cy="53974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611280" y="404640"/>
            <a:ext cx="8353440" cy="370080"/>
            <a:chOff x="611280" y="404640"/>
            <a:chExt cx="8353440" cy="37008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611280" y="404640"/>
              <a:ext cx="5047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451640" y="404640"/>
              <a:ext cx="1513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eza, agosto 0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851280" y="4762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cu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74872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7301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  <a:path fill="darken" w="21600" h="21744">
                <a:moveTo>
                  <a:pt x="3794" y="3865"/>
                </a:moveTo>
                <a:lnTo>
                  <a:pt x="5456" y="3865"/>
                </a:lnTo>
                <a:lnTo>
                  <a:pt x="5456" y="17878"/>
                </a:lnTo>
                <a:lnTo>
                  <a:pt x="3794" y="17878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484360" y="1557360"/>
          <a:ext cx="4259160" cy="4641840"/>
        </p:xfrm>
        <a:graphic>
          <a:graphicData uri="http://schemas.openxmlformats.org/drawingml/2006/table">
            <a:tbl>
              <a:tblPr/>
              <a:tblGrid>
                <a:gridCol w="1930320"/>
                <a:gridCol w="232884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o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p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ego de mem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 de explo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 de ident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ntalla de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z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inter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aguj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ar tex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lenar aguje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r ele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enar ele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uesta escr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ucigra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pa de let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611280" y="404640"/>
            <a:ext cx="8353440" cy="370080"/>
            <a:chOff x="611280" y="404640"/>
            <a:chExt cx="8353440" cy="370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611280" y="404640"/>
              <a:ext cx="5047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451640" y="404640"/>
              <a:ext cx="1513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eza, agosto 0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835280" y="83664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ciséis posibilidades diferentes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411280" y="2060640"/>
          <a:ext cx="482472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060640"/>
                    <a:ext cx="48247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"/>
          <p:cNvGrpSpPr/>
          <p:nvPr/>
        </p:nvGrpSpPr>
        <p:grpSpPr>
          <a:xfrm>
            <a:off x="611280" y="404640"/>
            <a:ext cx="8353440" cy="370080"/>
            <a:chOff x="611280" y="404640"/>
            <a:chExt cx="8353440" cy="370080"/>
          </a:xfrm>
        </p:grpSpPr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611280" y="404640"/>
              <a:ext cx="5047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451640" y="404640"/>
              <a:ext cx="1513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eza, agosto 0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77080" y="566100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ume Puig Balagu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JI Castell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638172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7301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5456" y="3812"/>
                </a:lnTo>
                <a:lnTo>
                  <a:pt x="5456" y="17824"/>
                </a:lnTo>
                <a:lnTo>
                  <a:pt x="3794" y="17824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411280" y="2060640"/>
          <a:ext cx="482472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060640"/>
                    <a:ext cx="48247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611280" y="404640"/>
            <a:ext cx="8353440" cy="370080"/>
            <a:chOff x="611280" y="404640"/>
            <a:chExt cx="8353440" cy="37008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611280" y="404640"/>
              <a:ext cx="5047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451640" y="404640"/>
              <a:ext cx="1513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eza, agosto 0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877080" y="566100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ume Puig Balagu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JI Castell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134136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er práctico de Nuevas Tecnologías en la enseñ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476360" y="3284640"/>
          <a:ext cx="280836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3284640"/>
                    <a:ext cx="2808360" cy="178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003640" y="3284640"/>
          <a:ext cx="2811600" cy="17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3284640"/>
                    <a:ext cx="2811600" cy="178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8000" y="1196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ción de actividades educativas con JC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11280" y="404640"/>
            <a:ext cx="504720" cy="37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451640" y="404640"/>
            <a:ext cx="151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eza, agosto 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604360" y="638172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14299" y="10818"/>
                </a:moveTo>
                <a:lnTo>
                  <a:pt x="3794" y="17824"/>
                </a:lnTo>
                <a:lnTo>
                  <a:pt x="3794" y="3812"/>
                </a:lnTo>
                <a:close/>
              </a:path>
              <a:path fill="darken" w="21600" h="21636">
                <a:moveTo>
                  <a:pt x="16144" y="3812"/>
                </a:moveTo>
                <a:lnTo>
                  <a:pt x="16144" y="17824"/>
                </a:lnTo>
                <a:lnTo>
                  <a:pt x="17806" y="17824"/>
                </a:lnTo>
                <a:lnTo>
                  <a:pt x="17806" y="3812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451640" y="404640"/>
            <a:ext cx="151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eza, agosto 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38920" cy="4783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504720" cy="370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19280" y="8366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rra de menú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123640" y="1052640"/>
            <a:ext cx="14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500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56720" y="2133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ntana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596360" y="234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ntana de ju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795640" y="3933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56720" y="57340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rra de es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7811640" y="5950080"/>
            <a:ext cx="289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7280" y="61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ja de mensaj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643280" y="58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5516640"/>
            <a:ext cx="79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20000" y="551664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6237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547640" y="58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6237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451640" y="58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492360" y="1413000"/>
          <a:ext cx="259236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13000"/>
                    <a:ext cx="2592360" cy="890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708360" y="3789360"/>
          <a:ext cx="2232000" cy="95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789360"/>
                    <a:ext cx="2232000" cy="9540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851280" y="907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3141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38606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idad a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400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3141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idad pos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932360" y="3357720"/>
            <a:ext cx="1295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378936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inicia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796000" y="3933720"/>
            <a:ext cx="93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72360" y="45086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es de usu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867280" y="4508280"/>
            <a:ext cx="720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443700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yuda sobre la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45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522936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ción adi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59280" y="46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11280" y="404640"/>
            <a:ext cx="8353440" cy="370080"/>
            <a:chOff x="611280" y="404640"/>
            <a:chExt cx="8353440" cy="370080"/>
          </a:xfrm>
        </p:grpSpPr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611280" y="404640"/>
              <a:ext cx="5047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51640" y="404640"/>
              <a:ext cx="1513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eza, agosto 0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8748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7319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5474" y="3794"/>
                </a:lnTo>
                <a:lnTo>
                  <a:pt x="5474" y="17806"/>
                </a:lnTo>
                <a:lnTo>
                  <a:pt x="3812" y="17806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619280" y="2781360"/>
          <a:ext cx="6624720" cy="89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781360"/>
                    <a:ext cx="6624720" cy="89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700360" y="9079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2060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arra de menú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414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estañ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62728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1692360" y="328464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3203640" y="328464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4859280" y="3284640"/>
            <a:ext cx="16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328464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129440" cy="53485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611280" y="404640"/>
            <a:ext cx="8353440" cy="370080"/>
            <a:chOff x="611280" y="404640"/>
            <a:chExt cx="8353440" cy="37008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611280" y="404640"/>
              <a:ext cx="5047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451640" y="404640"/>
              <a:ext cx="1513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eza, agosto 0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851280" y="4762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roye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7166160" cy="537552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611280" y="404640"/>
            <a:ext cx="8353440" cy="370080"/>
            <a:chOff x="611280" y="404640"/>
            <a:chExt cx="8353440" cy="3700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611280" y="404640"/>
              <a:ext cx="5047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1640" y="404640"/>
              <a:ext cx="1513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eza, agosto 0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851280" y="4762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Mediate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882000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089840" cy="53182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611280" y="404640"/>
            <a:ext cx="8353440" cy="370080"/>
            <a:chOff x="611280" y="404640"/>
            <a:chExt cx="8353440" cy="3700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611280" y="404640"/>
              <a:ext cx="5047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51640" y="404640"/>
              <a:ext cx="1513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eza, agosto 0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851280" y="4762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4872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05:39:43Z</dcterms:created>
  <dc:creator>puig</dc:creator>
  <dc:description/>
  <dc:language>en-US</dc:language>
  <cp:lastModifiedBy>puig</cp:lastModifiedBy>
  <dcterms:modified xsi:type="dcterms:W3CDTF">2005-07-06T13:13:48Z</dcterms:modified>
  <cp:revision>20</cp:revision>
  <dc:subject/>
  <dc:title>Creación de actividades educativas con JClic</dc:title>
</cp:coreProperties>
</file>